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E193-FD0F-4F89-8F23-636CA8DF9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DE8C-BA48-4F76-9922-0C8398CD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2CA0-A961-4910-B77D-16EB24B67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8A33-F7D0-48D6-9C65-99163ADF5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5B18-65E0-4054-8AAA-DA55BC505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9F03B-3E33-4AE4-A529-64774E1B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458C4-AF93-4FA3-A490-AE7813D0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F488-8B4D-4091-B259-1AEE7700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6C3A-3414-446C-BE65-58E7AC4A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C2DE-28E3-4E19-ACEA-B9AA43A8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BE6C-69F3-47E3-B180-EB107F38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108C-8BEF-43D5-9710-336AC2CF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DE5C0-A348-42A6-9FAF-F337B5BE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D66E-4AA5-468F-8C59-05C6ADD3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B1AD-D943-4230-BF5A-5DA19BD6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B64F-CBE1-496F-BA6C-0432BD57B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CD9D-2555-41DD-B7D4-D5DF1E5A3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9284-CB25-4A87-8166-ACE1780F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F751-2FB7-4F59-9158-9BC501E5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6DB4-54D9-490E-8158-844648F9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8B56-61D6-4D99-84DE-4FAE01FF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6315-127C-4C86-B018-DC942B54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1230-EAB3-4CEB-8017-866E4157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3268-210B-48A0-8CA7-826D47D2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(c 2015 SAGE Publications, In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29A6-6046-4302-A796-75B601EA372D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(c 2015 SAGE Publications, In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BBD9-CC50-4AC2-A119-EF8E768A7BC6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231840" y="993600"/>
            <a:ext cx="8875800" cy="2749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Footer Placeholder 1"/>
          <p:cNvSpPr/>
          <p:nvPr/>
        </p:nvSpPr>
        <p:spPr>
          <a:xfrm>
            <a:off x="3124080" y="6416640"/>
            <a:ext cx="312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Rectangle 2" descr=""/>
          <p:cNvPicPr/>
          <p:nvPr/>
        </p:nvPicPr>
        <p:blipFill>
          <a:blip r:embed="rId1"/>
          <a:stretch/>
        </p:blipFill>
        <p:spPr>
          <a:xfrm>
            <a:off x="152280" y="274680"/>
            <a:ext cx="8839440" cy="1584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Civil Liberty and Countering Extremism Through Refor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oercive Measures to Counter Extremis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ocietal and Cultural Respons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ase in Point: Cultural Shifts, Inclusion, and Civil Liberty in the United Stat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Footer Placeholder 1"/>
          <p:cNvSpPr/>
          <p:nvPr/>
        </p:nvSpPr>
        <p:spPr>
          <a:xfrm>
            <a:off x="3124080" y="6416640"/>
            <a:ext cx="3429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Rectangle 2" descr=""/>
          <p:cNvPicPr/>
          <p:nvPr/>
        </p:nvPicPr>
        <p:blipFill>
          <a:blip r:embed="rId1"/>
          <a:stretch/>
        </p:blipFill>
        <p:spPr>
          <a:xfrm>
            <a:off x="0" y="133200"/>
            <a:ext cx="9144000" cy="1683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errorist Profil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Problem of Labeling the enem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Ker-Frisbie Rule and Extraordinary Renditi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ase in Point: The Torture Debat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Footer Placeholder 1"/>
          <p:cNvSpPr/>
          <p:nvPr/>
        </p:nvSpPr>
        <p:spPr>
          <a:xfrm>
            <a:off x="3124080" y="6416640"/>
            <a:ext cx="312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Rectangle 2" descr=""/>
          <p:cNvPicPr/>
          <p:nvPr/>
        </p:nvPicPr>
        <p:blipFill>
          <a:blip r:embed="rId1"/>
          <a:stretch/>
        </p:blipFill>
        <p:spPr>
          <a:xfrm>
            <a:off x="0" y="-103320"/>
            <a:ext cx="9144000" cy="21639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22093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Terrorist Profil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milar to Criminal Profil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haracteristics Used for Terrorist Profil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etentions and Material Witness Warran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road Surveillance Ne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3124080" y="6416640"/>
            <a:ext cx="327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Rectangle 2" descr=""/>
          <p:cNvPicPr/>
          <p:nvPr/>
        </p:nvPicPr>
        <p:blipFill>
          <a:blip r:embed="rId1"/>
          <a:stretch/>
        </p:blipFill>
        <p:spPr>
          <a:xfrm>
            <a:off x="0" y="133200"/>
            <a:ext cx="9144000" cy="1951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57200" y="2209680"/>
            <a:ext cx="82296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The Problem of Labeling the Enemy</a:t>
            </a: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efining Terroris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abeling Detaine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pecial Status of Suspec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ivil Liberties and Detaine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Footer Placeholder 1"/>
          <p:cNvSpPr/>
          <p:nvPr/>
        </p:nvSpPr>
        <p:spPr>
          <a:xfrm>
            <a:off x="3124080" y="641664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Rectangle 2" descr=""/>
          <p:cNvPicPr/>
          <p:nvPr/>
        </p:nvPicPr>
        <p:blipFill>
          <a:blip r:embed="rId1"/>
          <a:stretch/>
        </p:blipFill>
        <p:spPr>
          <a:xfrm>
            <a:off x="0" y="146160"/>
            <a:ext cx="9144000" cy="2170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57200" y="22093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The Ker-Frisbie Rule and Extraordinary Renditi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nconventional Tactics and Extraordinary Renditi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se During Drug Wa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IA Operati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Footer Placeholder 1"/>
          <p:cNvSpPr/>
          <p:nvPr/>
        </p:nvSpPr>
        <p:spPr>
          <a:xfrm>
            <a:off x="3124080" y="6416640"/>
            <a:ext cx="327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Rectangle 2" descr=""/>
          <p:cNvPicPr/>
          <p:nvPr/>
        </p:nvPicPr>
        <p:blipFill>
          <a:blip r:embed="rId1"/>
          <a:stretch/>
        </p:blipFill>
        <p:spPr>
          <a:xfrm>
            <a:off x="0" y="-79200"/>
            <a:ext cx="9144000" cy="1950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57200" y="20574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Case in Point: The Torture Debat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bu Ghraib Scanda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nhanced Interrogati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orality and Legitimac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xamples of Techniqu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" name="Footer Placeholder 1"/>
          <p:cNvSpPr/>
          <p:nvPr/>
        </p:nvSpPr>
        <p:spPr>
          <a:xfrm>
            <a:off x="3124080" y="6416640"/>
            <a:ext cx="3429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Rectangle 2" descr=""/>
          <p:cNvPicPr/>
          <p:nvPr/>
        </p:nvPicPr>
        <p:blipFill>
          <a:blip r:embed="rId1"/>
          <a:stretch/>
        </p:blipFill>
        <p:spPr>
          <a:xfrm>
            <a:off x="298440" y="189000"/>
            <a:ext cx="8163000" cy="14144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301680" y="2362320"/>
            <a:ext cx="854064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0ad00"/>
                </a:solidFill>
                <a:latin typeface="Book Antiqua"/>
              </a:rPr>
              <a:t>Civil Liberties and Securing the Homeland</a:t>
            </a:r>
            <a:endParaRPr b="0" lang="en-US" sz="6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Footer Placeholder 1"/>
          <p:cNvSpPr/>
          <p:nvPr/>
        </p:nvSpPr>
        <p:spPr>
          <a:xfrm>
            <a:off x="3124080" y="6416640"/>
            <a:ext cx="312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2" descr=""/>
          <p:cNvPicPr/>
          <p:nvPr/>
        </p:nvPicPr>
        <p:blipFill>
          <a:blip r:embed="rId1"/>
          <a:stretch/>
        </p:blipFill>
        <p:spPr>
          <a:xfrm>
            <a:off x="457200" y="103320"/>
            <a:ext cx="8388360" cy="1719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Early Republic and Civil Wa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mmunism and the Red Scar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artime Internment Camp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Footer Placeholder 1"/>
          <p:cNvSpPr/>
          <p:nvPr/>
        </p:nvSpPr>
        <p:spPr>
          <a:xfrm>
            <a:off x="3124080" y="6416640"/>
            <a:ext cx="327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tangle 2" descr=""/>
          <p:cNvPicPr/>
          <p:nvPr/>
        </p:nvPicPr>
        <p:blipFill>
          <a:blip r:embed="rId1"/>
          <a:stretch/>
        </p:blipFill>
        <p:spPr>
          <a:xfrm>
            <a:off x="0" y="133200"/>
            <a:ext cx="9217080" cy="2195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2437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The Early Republic and Civil Wa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lien and Sedition Ac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uspension of the Writ of Habeas Corpu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Footer Placeholder 1"/>
          <p:cNvSpPr/>
          <p:nvPr/>
        </p:nvSpPr>
        <p:spPr>
          <a:xfrm>
            <a:off x="3124080" y="641664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Rectangle 2" descr=""/>
          <p:cNvPicPr/>
          <p:nvPr/>
        </p:nvPicPr>
        <p:blipFill>
          <a:blip r:embed="rId1"/>
          <a:stretch/>
        </p:blipFill>
        <p:spPr>
          <a:xfrm>
            <a:off x="0" y="158760"/>
            <a:ext cx="9144000" cy="1981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2209680"/>
            <a:ext cx="82296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Communism and the Red Scar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Red Scare of 1919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Red Scare of the 1930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House Un-American Activities Committe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Red Scare of the 1950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nator Joseph McCarthy and McCarthyis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Footer Placeholder 1"/>
          <p:cNvSpPr/>
          <p:nvPr/>
        </p:nvSpPr>
        <p:spPr>
          <a:xfrm>
            <a:off x="3124080" y="641664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2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388360" cy="1981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2286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Wartime Internment Camp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asons for Reloc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War Relocation Authorit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oncentrating the Population of Asians of Japanese Heritag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Civil Liberties Act of 1988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Footer Placeholder 1"/>
          <p:cNvSpPr/>
          <p:nvPr/>
        </p:nvSpPr>
        <p:spPr>
          <a:xfrm>
            <a:off x="3124080" y="6416640"/>
            <a:ext cx="358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actical Considerations: Civil Liberty and Government Respons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ivil Liberty and Countering Extremism Through Refor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Footer Placeholder 1"/>
          <p:cNvSpPr/>
          <p:nvPr/>
        </p:nvSpPr>
        <p:spPr>
          <a:xfrm>
            <a:off x="3124080" y="6416640"/>
            <a:ext cx="358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Rectangl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66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Practical Considerations: Civil Liberty and Government Respons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ounterterrorist Objectiv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alancing Theory and Practicalit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lectronic Surveillance and Civil Libert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ata Mining by the NS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Footer Placeholder 1"/>
          <p:cNvSpPr/>
          <p:nvPr/>
        </p:nvSpPr>
        <p:spPr>
          <a:xfrm>
            <a:off x="3124080" y="6416640"/>
            <a:ext cx="327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Rectangle 2" descr=""/>
          <p:cNvPicPr/>
          <p:nvPr/>
        </p:nvPicPr>
        <p:blipFill>
          <a:blip r:embed="rId1"/>
          <a:stretch/>
        </p:blipFill>
        <p:spPr>
          <a:xfrm>
            <a:off x="0" y="0"/>
            <a:ext cx="9174240" cy="1468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18:52:59Z</dcterms:created>
  <dc:creator>gmartin</dc:creator>
  <dc:description/>
  <dc:language>en-US</dc:language>
  <cp:lastModifiedBy>Julie Griffin</cp:lastModifiedBy>
  <dcterms:modified xsi:type="dcterms:W3CDTF">2014-06-30T23:00:17Z</dcterms:modified>
  <cp:revision>128</cp:revision>
  <dc:subject/>
  <dc:title>Slide 1</dc:title>
</cp:coreProperties>
</file>